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FA9-AAD4-4C1D-BFCC-D7DD2746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6A1-9262-4700-B499-D11D6A1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833-FB2A-4841-8F5D-274A27BF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A2D-2C2D-4BB5-AB53-E9527715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6A7-B3D9-4CD4-A511-BE0EA9B7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5C05-F1A9-43BE-B33E-7DF51F4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3014-6148-421D-AC57-045EDE14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378-CBC3-4594-8752-DABA51F9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121-3762-4C82-810F-BB23DED9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A8F-C6F0-4639-BF8E-62937F2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75E8-1DE6-4DFD-B649-D7F0A03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E70-F3F4-4337-96E3-383381A2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8D9F-A136-48D0-8918-1DC35F84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EC29-44D1-4218-8F68-9C36A19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B3E-DFE1-4057-8BE5-9F3535B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BC3-9248-46EF-B0A8-EDBA12D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DE8-C784-41E8-A3C0-29CA3763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EB6C-F8B7-46D0-A860-2ABF682A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3CE3-DE16-43DF-AB95-68ACC32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E911-D34B-40C7-A51E-208D8E84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3F8E-4A9A-48EB-874B-192BD18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A728-4C3F-4698-9153-29C42562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A9F-1409-4B1C-A85B-F9B2E61D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B2AA-F6DD-49F5-9C25-E7E7F4EB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4508-4B0D-4F91-894D-49CC2AC2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4BE0-700F-4FEA-911B-BC4E8A3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8D74-3CDD-4FF8-A92C-5612051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E0F6-6420-4C7D-9FE4-A3CB3EB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7532-444D-4452-A7E3-E87E69A0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A5F7-BC3F-471B-BC65-67F140E1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D952-E27A-4AA6-AF9F-CDCFF353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D056-51CC-4A72-849F-D6B076E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E071-6E72-47D3-B5EF-2A34FC77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351-AF04-47B3-B8C4-F329255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E743-91A3-4472-BB5D-7681CCB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7A34-7AB5-4E20-90A2-ED47E4E7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80AB-1D05-4911-973C-72ED296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7570-EA11-4CAA-85CF-D77F174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5244-EFA8-4B49-B98A-F509394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1E08-7EAA-424F-A980-2C84F99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FA2D-094A-49BA-A92F-BE46158E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AD1A4-5610-4B90-8FD2-369AC56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9241-FF32-463D-87CD-EEA52B1F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23D-884C-4F5F-9403-3D14AC1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D6E-06CE-4720-9E65-BA212149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571-C40D-48A2-9E22-92443E2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F1F-2A54-413B-AD0A-74DD23C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8E0-0512-4130-9E78-C299F31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730-B0D0-46FA-B6A0-14599B9E0875}" type="slidenum"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3A6-F722-43A9-8DBE-857248D24D4E}" type="slidenum"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FC8-06D1-4125-8D1F-F3FB47E9F323}" type="slidenum"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264-6C8F-4046-91B9-5B8B0E8A09AF}" type="slidenum"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3840" y="466200"/>
            <a:ext cx="7929720" cy="1319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FATLA 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Fundación para la Actualización Tecnológica de Latinoamérica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Programa de Experto en Procesos Elearning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Módulo 5 - Metodología PACIE - Capacitació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4 CuadroTexto"/>
          <p:cNvSpPr/>
          <p:nvPr/>
        </p:nvSpPr>
        <p:spPr>
          <a:xfrm>
            <a:off x="0" y="1785960"/>
            <a:ext cx="91440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URSOS WEB 2.0: OPORTUNIDAD DE CAPACITAR EN EL USO DE LAS HERRAMIENTAS TECNOLÓGICAS A LOS DOCENTES DE LA UCLA, PARA SER IMPLEMENTADO EN EL                PROCES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ITIC: CREATIVIDAD E INNOVACIÓN EN EL USO DE LAS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Coordinad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Nancy Gómez - Venezuela</a:t>
            </a:r>
            <a:br>
              <a:rPr sz="1600"/>
            </a:br>
            <a:br>
              <a:rPr sz="1600"/>
            </a:b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Integrantes del grupo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aría Mercedes Cambil- Venezuela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ercy María Cedeño- Ecuador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aribel Viales - Costa Rica</a:t>
            </a:r>
            <a:br>
              <a:rPr sz="1600"/>
            </a:b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Enero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Diapositiva1"/>
          <p:cNvPicPr/>
          <p:nvPr/>
        </p:nvPicPr>
        <p:blipFill>
          <a:blip r:embed="rId1"/>
          <a:stretch/>
        </p:blipFill>
        <p:spPr>
          <a:xfrm>
            <a:off x="3786120" y="2986200"/>
            <a:ext cx="1743120" cy="1269720"/>
          </a:xfrm>
          <a:prstGeom prst="rect">
            <a:avLst/>
          </a:prstGeom>
          <a:ln w="0">
            <a:noFill/>
          </a:ln>
        </p:spPr>
      </p:pic>
      <p:pic>
        <p:nvPicPr>
          <p:cNvPr id="198" name="1 Imagen" descr="logofatla.jpg"/>
          <p:cNvPicPr/>
          <p:nvPr/>
        </p:nvPicPr>
        <p:blipFill>
          <a:blip r:embed="rId2"/>
          <a:stretch/>
        </p:blipFill>
        <p:spPr>
          <a:xfrm>
            <a:off x="142920" y="160200"/>
            <a:ext cx="29289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2 Imagen" descr="expertoelearning.png"/>
          <p:cNvPicPr/>
          <p:nvPr/>
        </p:nvPicPr>
        <p:blipFill>
          <a:blip r:embed="rId3"/>
          <a:stretch/>
        </p:blipFill>
        <p:spPr>
          <a:xfrm>
            <a:off x="8012160" y="160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0080" y="791640"/>
            <a:ext cx="6292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7. Evaluación del curso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1714680"/>
          <a:ext cx="8072280" cy="393696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ductos Esper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or Porcen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 de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tualización del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mer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ciones en foro-disc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urante todas las se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ciones en foro-t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rta y Quin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y participación en la 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r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grupal sobre planeamiento y uso de Google d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in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seño de la guía de observación con el respectivo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x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valuación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000000"/>
                </a:solidFill>
                <a:latin typeface="Calibri"/>
              </a:rPr>
              <a:t>Tabla de contenido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85880" y="1785600"/>
            <a:ext cx="72151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1. Descripción general del cur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2. Objetivo gener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3. Objetivos específic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4. Metodología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5. Recurs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6. Cronograma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7. Evaluación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3 Imagen" descr="ordenando_libros_med.jpg"/>
          <p:cNvPicPr/>
          <p:nvPr/>
        </p:nvPicPr>
        <p:blipFill>
          <a:blip r:embed="rId1"/>
          <a:stretch/>
        </p:blipFill>
        <p:spPr>
          <a:xfrm>
            <a:off x="6215040" y="928800"/>
            <a:ext cx="24433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2857680"/>
            <a:ext cx="8215560" cy="52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500" spc="-1" strike="noStrike">
                <a:solidFill>
                  <a:srgbClr val="04617b"/>
                </a:solidFill>
                <a:latin typeface="Calibri"/>
              </a:rPr>
              <a:t>Propuesta de capacitación en línea  a los docentes de la UCLA</a:t>
            </a:r>
            <a:br>
              <a:rPr sz="4500"/>
            </a:br>
            <a:r>
              <a:rPr b="0" lang="es-CR" sz="3600" spc="-1" strike="noStrike">
                <a:solidFill>
                  <a:srgbClr val="04617b"/>
                </a:solidFill>
                <a:latin typeface="Calibri"/>
              </a:rPr>
              <a:t>LA GENERACIÓN DIGITAL UN DESAFÍO EDUCATIVO.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2857680"/>
            <a:ext cx="80726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1. Descripción general del curso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l curso es una experiencia de aprendizaje en línea que permitirá a los educadores de cualquier ámbito realizar un análisis de las cambios tecnológicos que estamos enfrentando en la educación y como debemos de ajustar nuestras metodologías a la tecnología existente, para que de esta forma la educación está cada vez más alineada a las estructuras de pensamiento y aprendizaje de nuestros llamados Nativos digital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stá dirigido a una población meta de al menos 10 educadores, que cuentan con computadora en el aula; esto debido a que las oportunidad de contar con un recursos computación hoy en día es cada vez más factible y se necesita orientar el trabajo de los docentes para que se maximice su uso y de esta forma la educación sea cada día más dinámica dentro de estas institucion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l curso está planificado para 6 semanas de duración, con un total de 40 horas de trabajo que comprenderá el espacio para lecturas, búsqueda de recursos en línea, producción de guías de observación , planeamiento de lecciones y redes sociales de intercambio de Documentos en línea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14240" y="1356840"/>
            <a:ext cx="7715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Se conforma de los siguientes espacios: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de discusión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temática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donde se presentarán lectura sobre relacionadas con el contenido del curs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taller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este espacio involucra la interacción de los participantes, busca dar respuesta a las dudas e interrogantes que se le presenten a los participante; se espera motivar las redes de ayuda relacionadas con las diversas actividades que propone el curs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Uso del Google Docs y Wikis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Para el intercambio virtual de material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de socialización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Espacio Virtual de recreación en el que los participantes podrán interactuar entre ellos y conocer mejor los gustos y características de sus compañeros.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2.Objetivo Gene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Propiciar espacios de análisis y reflexión sobre el uso de las tecnologías digitales en la educación y su impacto en los estudiant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3880" y="1071360"/>
            <a:ext cx="785844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3. Objetivos Específic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Conocer las características de aprendizaje de nuestros llamados nativos digitales y adaptar nuestras aulas y metodologías a su forma de asimilar inform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Recopilar estrategias de trabajo y software de apoyo para el trabajo con los estudiantes, utilizando para ellos las TICs en educ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4. Metodología del curs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curso se compone de 6 bloques de trabajo donde se estima el uso de herramientas en línea y herramientas de trabajo facilitadas por los mismos participante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Se hace uso del Foro-Taller donde los participantes mediante consignas hacen sus aportes documentales e instrumentales sobre los diversos tópicos que se abordan en el cur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tiliza además un Foro de discusión en el cual se debatirán temas relacionados a los contenidos del curso y que demandarán en el participante la búsqueda de conclusiones concretas sobre los aportes de todos los compañeros del curso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so de un foro de socialización llamado: “Espacio de Recreación Virtual” donde los participantes comentarán o discutirán sobre diversos temas de interés (música, expectativas, chistes, adivinanzas etc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so de herramientas en línea como El Google Docs, Wikis, para poder compartir materiales entre los compañeros, ampliando así los conocimientos sobre la temática y aumentando destrezas en el uso de las tecnologías para el aprendizaje y educación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428480"/>
            <a:ext cx="807228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1 Población meta: Profesores de la UCL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2 Cantidad de participantes: _______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3 Cantidad de semanas: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4 Cantidad de horas: 40 hor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5. Recurs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Moodle: Aula virtual (Foro dudas, foro discusión, foro espacio social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chats, encuesta, wiki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Herramienta web 2.0: Blo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Computador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CuadroTexto"/>
          <p:cNvSpPr/>
          <p:nvPr/>
        </p:nvSpPr>
        <p:spPr>
          <a:xfrm>
            <a:off x="571680" y="71424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6. Cronograma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0040" y="1397160"/>
          <a:ext cx="8215200" cy="440352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 aula Virtual, ubicación, navegabilidad y Se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zando Mi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ociendo a Mis compañ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esentación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esentación de la institución e intercambios con compañeros de cur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: “Presentación y expectativa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ivos digitales Vrs modelos de 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: Nativos digitales y modelos de 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s grupales de discusión en relación a la lectu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428760"/>
          <a:ext cx="8215200" cy="621828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7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ramientas digitales y su aplicación a la edu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través de un foro general los participantes buscan y comentan diferentes herramientas digitales aplicables a la Edu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general de discusión relacionado con las herramientas encont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7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ágina Youtube como biblioteca multimedia de la escuel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 del manual de cómo bajar y subir vide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rea: Los participantes diseñan una guía de observación para un video determinado y lo comparten en la Wiki  junto con el link del vide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 sub grupos se valora e enriquece la guía de observación de algún estudia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: sobre aspectos relacionados con el trabaj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 de dudas Gener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iki sobre guías de observ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500040" y="428760"/>
          <a:ext cx="8215200" cy="609912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33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 herramienta de Google Docs para el desarrollo de redes de intercambio virtu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 ppt del manual de Google Doc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en subgrupos, los cuales realizaran un Planeamiento en línea el cual involucre el uso de herramientas digitales, el cual enviaran a través de Google Docs al profes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: sobre aspectos relacionados con el trab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 de dudas Gener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2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o maximizar el uso las herramientas de la Web 2 en los nativos digitales. (la educación frente a estos requerimient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stival de citas bibliográfic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os los participantes realizaran una búsqueda bibliográfica relacionada con la Educación vrs nativos digit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otaran citas textuales del documento encontrado con su respectiva bibliografía y darán aportes a las de sus compañe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intercambio de citas textuales y bibliograf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4:29:15Z</dcterms:created>
  <dc:creator>Maribel.Viales</dc:creator>
  <dc:description/>
  <dc:language>en-US</dc:language>
  <cp:lastModifiedBy>maria mercedes</cp:lastModifiedBy>
  <dcterms:modified xsi:type="dcterms:W3CDTF">2010-01-23T03:02:21Z</dcterms:modified>
  <cp:revision>26</cp:revision>
  <dc:subject/>
  <dc:title>Diapositiva 1</dc:title>
</cp:coreProperties>
</file>